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7C5-46E9-4030-9C09-878EB3C0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581-7FCA-4B66-96E1-6FEF56B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BF2-28D9-47C9-BD23-268AF1E0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CB5-A087-44A7-8B13-E2FEFB3E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976-90DC-4B64-BDBA-80800F0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A7F-B411-4C82-B3CA-8F1322EA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9C4-AD59-4BAB-8503-9B5D24A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DC6-91C7-4E12-AB0D-DB31EFF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1FD-7BD7-40FB-813A-F52DAB3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581-CA8F-44F9-B48C-EE8654B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A6E-FCD5-4721-B2DF-0E5AC71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DFA-041F-4A8F-A262-BB1FFC0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283-909C-495C-AD7D-EEFD3987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ME’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066680" y="1523880"/>
            <a:ext cx="6867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nic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37160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772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est Goes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80773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great pride in their Republic 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conquered groups as all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army was disciplined 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uccess was greatly valued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red by Ro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ning wars was a great source of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Romans – land, valuables, slav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990720"/>
            <a:ext cx="830592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would be gone a long time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y were controlling all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many poor and unemployed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 leaders quarreled and, at times, kill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the slaves rebel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8:31:53Z</dcterms:created>
  <dc:creator>gehadde</dc:creator>
  <dc:description/>
  <dc:language>en-US</dc:language>
  <cp:lastModifiedBy>gehadde</cp:lastModifiedBy>
  <dcterms:modified xsi:type="dcterms:W3CDTF">2012-06-01T13:52:13Z</dcterms:modified>
  <cp:revision>8</cp:revision>
  <dc:subject/>
  <dc:title>WARM-UP: #6</dc:title>
</cp:coreProperties>
</file>